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28FC-EE76-4383-A643-49D79E3A3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D85C-389D-49E3-810E-2C5B1470A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CE97-2FC4-40A6-BD1D-4FC80C45E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4EFA-92A5-447C-BB0A-39E1009AA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1591-5752-4B98-B48B-2447F8AB7F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EA41-BBCE-4AC3-B161-18DC817150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2870-1D23-4886-B02E-3A1B9E9AD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DB46-1380-4C2C-9FE7-99A66528E5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E77C-0E58-4009-9AAB-709BB47035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63DB-0839-4441-8393-B97FBA3C93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7409-36A2-411B-ADCF-3184B6CBB1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6D3B-E7D4-4125-9D81-47683BEE1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058B-5276-4B4C-91EF-D0047304FE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72B0-855D-4C51-A300-6F41AEB24F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FA2E-B81B-4372-971A-EA1DC1557B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DD67-DDA6-4158-AEFC-9DF03E22C4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4D58-2883-4DC2-9D23-DBEEA682CF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A547-D37D-43FD-BB8F-5D16623DC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9275-2DB5-4F89-922C-212C14E7C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CB1A-F225-455C-B523-7BFA015F1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7730-CD51-4C5C-B354-FEE94378F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78BD-97EE-41EC-A981-E510A3449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0612-9C18-49A1-8C6E-C01383C44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F68E-BD4F-416B-96B4-18315E0B3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DCD8-1F77-4A16-9634-D077FA47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9B5B-EDAC-4AD4-9417-F22B22E6A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sac.org/_res/documents/sl/pdf/List-of-Correctable-Ministerial-and-Clerical-Errors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ommitment Cor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A Identified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may be detected during PI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 may contact you and allow corrections if they find certain discrepan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21 doesn’t match Bloc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 for single entity doesn’t match discount reported on different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21 includes entities missing from your Bloc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 Plan is missing one or more required elemen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3198-A698-43BF-AA53-3B854D5A7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ests that Need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Block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entities, removing entities, changing discou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Award Date, Signature Date, Contract Expiration Dat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C2CD-B04D-4D26-955D-6E0DDF5AB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ests that Need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B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 Posting Dates, Bid Evaluation documents, Contract Signatures/Da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Block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to increase dollars, request to change number of months of service, changes from recurring to non-recurring, changes from contract to Tariff or MT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1A43-A813-4AEE-8DFD-43D1F6B0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A09A-1EF0-4114-AEF4-C0150D9DB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893-6289-4A28-8120-AC8CB5F9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4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ical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, Dead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Detected During 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rical Cor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shop Perry Order allows applicants to make corrections to Forms 470 &amp; 471 - known as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inisterial &amp; clerical correc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nts have additional time to certify Forms 470 &amp; 471, make corrections th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o not requi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Form 470 to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s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the Form 471 to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-filed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o not viol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CC regulations and/or program ru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C, with FCC guidance, developed a list of correctable items.  </a:t>
            </a:r>
            <a:r>
              <a:rPr b="0" lang="en-US" sz="2600" spc="-1" strike="noStrike" u="sng">
                <a:solidFill>
                  <a:srgbClr val="2a56b2"/>
                </a:solidFill>
                <a:uFillTx/>
                <a:latin typeface="Arial"/>
                <a:hlinkClick r:id="rId1"/>
              </a:rPr>
              <a:t>List of Correctable M &amp; C Error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quent FCC Orders issued identified more corrections allowable during PIA re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4131-848D-4CA6-AEE3-0164D6107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rical Cor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ed the incorrect amount (i.e., data entered $100 instead of $1,00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itted an entity from the Block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the incorrect Form 470 number on the Form 4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 the wrong category of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mitted an unsigned contract to 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itted an FR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d not include all of the required elements in the written tech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E7A9-16BF-4105-99F1-CF3FA161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Do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8150400" cy="471816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7FF6-2937-4C82-9D62-8EF470C7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Do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4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8150400" cy="47181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27C5-783A-4204-AF05-53EA4F79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Do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384120" y="1682640"/>
            <a:ext cx="7766280" cy="425448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B70B-D301-4D10-9213-DB299987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, Dead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Day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 corrections MUST be submitted 20 calendar days (5 days for mail receipt + 15 days) from the date of USAC’s le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pt Notification Letter (RNL) –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pt Acknowledgment Letter (RAL) – 4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, email or fax corrections to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 doesn’t contain Block 4 information, so include the corrected Block 4 worksheet with your RAL 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F66-F304-4AA9-A6F8-0A64BCB95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NL/RAL Cor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ons submitted after the deadline in the let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s to increase funding will not be gran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 will work with applicants to make clerical error corrections until the FCDL is is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 will request documentation to support the correction, such as contract, invoice, bill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2EF6-3194-438B-A83F-256BB59D8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lfullwood</cp:lastModifiedBy>
  <dcterms:modified xsi:type="dcterms:W3CDTF">2009-09-17T17:55:12Z</dcterms:modified>
  <cp:revision>473</cp:revision>
  <dc:subject/>
  <dc:title>Slide 1</dc:title>
</cp:coreProperties>
</file>